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21298-C8B5-4E99-9B17-B82BECDBB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AC623-2A55-4091-86C0-84406960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4FEC2-1213-4539-8018-47028C9A3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8FE3D-6B60-4DBA-9A25-51BBD9E3B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7E643-260D-4390-8D2D-96C895EE3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A636A-60AB-4B62-962F-3D7057827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8A945-88CB-45C8-A233-1BC6A3329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AAF8-B62A-441B-9915-7FD10F51D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F661E-6783-4A23-8EEF-1DB6544F6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0480-54D8-4A1D-B058-75225D284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1F3E-5098-430F-AC67-2431FD26C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39462-B74B-4C22-A049-E7B12C4A1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D151-C3C0-4C7D-931E-995C4EA35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is Wind Pow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2205000"/>
            <a:ext cx="6400800" cy="396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about three pictures for the project for each source of energy, so first is wind power.</a:t>
            </a:r>
            <a:endParaRPr b="0" lang="en-US" sz="3200" spc="-1" strike="noStrike">
              <a:solidFill>
                <a:srgbClr val="000000"/>
              </a:solidFill>
              <a:latin typeface="Arial"/>
            </a:endParaRPr>
          </a:p>
        </p:txBody>
      </p:sp>
      <p:sp>
        <p:nvSpPr>
          <p:cNvPr id="43" name=""/>
          <p:cNvSpPr/>
          <p:nvPr/>
        </p:nvSpPr>
        <p:spPr>
          <a:xfrm>
            <a:off x="5796000" y="5734080"/>
            <a:ext cx="2736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take no credit for the pictures.</a:t>
            </a:r>
            <a:endParaRPr b="0" lang="en-US" sz="900" spc="-1" strike="noStrike">
              <a:solidFill>
                <a:srgbClr val="000000"/>
              </a:solidFill>
              <a:latin typeface="Arial"/>
            </a:endParaRPr>
          </a:p>
        </p:txBody>
      </p:sp>
      <p:sp>
        <p:nvSpPr>
          <p:cNvPr id="44" name=""/>
          <p:cNvSpPr/>
          <p:nvPr/>
        </p:nvSpPr>
        <p:spPr>
          <a:xfrm>
            <a:off x="4500720" y="486900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 Darren Gr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4760"/>
          </a:xfrm>
          <a:prstGeom prst="rect">
            <a:avLst/>
          </a:prstGeom>
          <a:ln w="0">
            <a:noFill/>
          </a:ln>
        </p:spPr>
      </p:pic>
      <p:sp>
        <p:nvSpPr>
          <p:cNvPr id="66" name=""/>
          <p:cNvSpPr/>
          <p:nvPr/>
        </p:nvSpPr>
        <p:spPr>
          <a:xfrm>
            <a:off x="5292720" y="260280"/>
            <a:ext cx="28796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energy is one of the cleanest ways for us to get electricity, there is no pollution but they are expensive to inst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77080"/>
          </a:xfrm>
          <a:prstGeom prst="rect">
            <a:avLst/>
          </a:prstGeom>
          <a:ln w="0">
            <a:noFill/>
          </a:ln>
        </p:spPr>
      </p:pic>
      <p:sp>
        <p:nvSpPr>
          <p:cNvPr id="68" name=""/>
          <p:cNvSpPr/>
          <p:nvPr/>
        </p:nvSpPr>
        <p:spPr>
          <a:xfrm>
            <a:off x="6659640" y="0"/>
            <a:ext cx="2305080" cy="669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is a small set of solar panels, they are small but they do ge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t of electricity, some solar panels give us the amount of electricity we use in one whole ye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et it to grey scale because it’s easier too see the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50920" y="0"/>
            <a:ext cx="5616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mount of solar panels, is enough to power a whole city, maybe even a province. But most likely, a 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0920" y="40464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 </a:t>
            </a:r>
            <a:endParaRPr b="0" lang="en-US" sz="2400" spc="-1" strike="noStrike">
              <a:solidFill>
                <a:srgbClr val="000000"/>
              </a:solidFill>
              <a:latin typeface="Arial"/>
            </a:endParaRPr>
          </a:p>
        </p:txBody>
      </p:sp>
      <p:sp>
        <p:nvSpPr>
          <p:cNvPr id="72" name=""/>
          <p:cNvSpPr txBox="1"/>
          <p:nvPr/>
        </p:nvSpPr>
        <p:spPr>
          <a:xfrm>
            <a:off x="2050920" y="404640"/>
            <a:ext cx="6639120" cy="7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dcebf5"/>
                    </a:gs>
                    <a:gs pos="100000">
                      <a:srgbClr val="55261c"/>
                    </a:gs>
                  </a:gsLst>
                  <a:lin ang="5400000"/>
                </a:gradFill>
                <a:latin typeface="Arial Black"/>
              </a:rPr>
              <a:t>HYDRO ELECTRICITY</a:t>
            </a:r>
            <a:endParaRPr b="0" lang="en-US" sz="4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73" name=""/>
          <p:cNvSpPr/>
          <p:nvPr/>
        </p:nvSpPr>
        <p:spPr>
          <a:xfrm>
            <a:off x="395280" y="2205000"/>
            <a:ext cx="92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 is somewhat hard to explain. Here i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2627280" y="333360"/>
            <a:ext cx="4392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hydro plant, it creates electricity by water going into a small pipe and spinning a ro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
          <p:cNvSpPr/>
          <p:nvPr/>
        </p:nvSpPr>
        <p:spPr>
          <a:xfrm>
            <a:off x="324000" y="4797360"/>
            <a:ext cx="259236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3780000" y="1268280"/>
            <a:ext cx="338436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pipes down there are where the water goes out of the plant, the water goes into a small pipe and creates water press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the water goes fast, it spins the rotor, resulting in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4760"/>
          </a:xfrm>
          <a:prstGeom prst="rect">
            <a:avLst/>
          </a:prstGeom>
          <a:ln w="0">
            <a:noFill/>
          </a:ln>
        </p:spPr>
      </p:pic>
      <p:sp>
        <p:nvSpPr>
          <p:cNvPr id="82" name=""/>
          <p:cNvSpPr/>
          <p:nvPr/>
        </p:nvSpPr>
        <p:spPr>
          <a:xfrm>
            <a:off x="2556000" y="549360"/>
            <a:ext cx="597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a hydro electricity generator, the water goes into the tube, spinning the turbine moving to create electricity in the power house gener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9280" y="33336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ast, and most not clean :</a:t>
            </a:r>
            <a:endParaRPr b="0" lang="en-US" sz="2400" spc="-1" strike="noStrike">
              <a:solidFill>
                <a:srgbClr val="000000"/>
              </a:solidFill>
              <a:latin typeface="Arial"/>
            </a:endParaRPr>
          </a:p>
        </p:txBody>
      </p:sp>
      <p:sp>
        <p:nvSpPr>
          <p:cNvPr id="84" name=""/>
          <p:cNvSpPr txBox="1"/>
          <p:nvPr/>
        </p:nvSpPr>
        <p:spPr>
          <a:xfrm>
            <a:off x="1476360" y="765000"/>
            <a:ext cx="7124760" cy="1473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1"/>
                  <a:srcRect/>
                  <a:tile tx="0" ty="0" sx="100000" sy="100000" algn="ctr"/>
                </a:blipFill>
                <a:latin typeface="Arial Black"/>
              </a:rPr>
              <a:t>NUCLEAR ENERGY</a:t>
            </a:r>
            <a:endParaRPr b="0" lang="en-US" sz="5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85" name=""/>
          <p:cNvSpPr/>
          <p:nvPr/>
        </p:nvSpPr>
        <p:spPr>
          <a:xfrm>
            <a:off x="611280" y="3141720"/>
            <a:ext cx="7489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is not even close to being clean, it causes so much pollution, it’s visible, it can be known as smog, or other things, so here we 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250920" y="115920"/>
            <a:ext cx="856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0" y="260280"/>
            <a:ext cx="83883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can see, nuclear plants give out a lot of pollution, resulting in acid rain, resulting in dead trees and other pla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684360" y="260280"/>
            <a:ext cx="3671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ne is pretty gross, most of the plants next to it are probably going to die. So I wouldn't use this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5292720" y="0"/>
            <a:ext cx="385128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wind turbines, The way they work is wind makes them spin and that makes a rotor produce electri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clean way for us to get electri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downside is that No Wind = No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6300720" cy="4726080"/>
          </a:xfrm>
          <a:prstGeom prst="rect">
            <a:avLst/>
          </a:prstGeom>
          <a:ln w="0">
            <a:noFill/>
          </a:ln>
        </p:spPr>
      </p:pic>
      <p:sp>
        <p:nvSpPr>
          <p:cNvPr id="92" name=""/>
          <p:cNvSpPr/>
          <p:nvPr/>
        </p:nvSpPr>
        <p:spPr>
          <a:xfrm>
            <a:off x="0" y="501336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you can see from this water goes into the steam generator, which gets some steam to the turbine which makes electricity, then the water does into the cooling water, then it goes into the condenser, and into the pump which send the water into the reactor cor to be used in the cycle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8360" y="69228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hat is all the types of electricity that I know of, Solar, Nuclear, Hydro, Tidal and Wind.</a:t>
            </a:r>
            <a:endParaRPr b="0" lang="en-US" sz="2400" spc="-1" strike="noStrike">
              <a:solidFill>
                <a:srgbClr val="000000"/>
              </a:solidFill>
              <a:latin typeface="Arial"/>
            </a:endParaRPr>
          </a:p>
        </p:txBody>
      </p:sp>
      <p:sp>
        <p:nvSpPr>
          <p:cNvPr id="94" name=""/>
          <p:cNvSpPr/>
          <p:nvPr/>
        </p:nvSpPr>
        <p:spPr>
          <a:xfrm>
            <a:off x="1258920" y="2565360"/>
            <a:ext cx="58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a fun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5724360" y="260280"/>
            <a:ext cx="2951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can see, there is a farm behind these wind turbines, and that is what these are powe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0080"/>
          </a:xfrm>
          <a:prstGeom prst="rect">
            <a:avLst/>
          </a:prstGeom>
          <a:ln w="0">
            <a:noFill/>
          </a:ln>
        </p:spPr>
      </p:pic>
      <p:sp>
        <p:nvSpPr>
          <p:cNvPr id="52" name=""/>
          <p:cNvSpPr/>
          <p:nvPr/>
        </p:nvSpPr>
        <p:spPr>
          <a:xfrm>
            <a:off x="0" y="0"/>
            <a:ext cx="29163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ne is just powering a lot of things, as you can see the electricity wires, on the telephone poles, its just making the electricity to power some various things. That’s my gu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8000" y="26028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One Is :</a:t>
            </a:r>
            <a:endParaRPr b="0" lang="en-US" sz="2400" spc="-1" strike="noStrike">
              <a:solidFill>
                <a:srgbClr val="000000"/>
              </a:solidFill>
              <a:latin typeface="Arial"/>
            </a:endParaRPr>
          </a:p>
        </p:txBody>
      </p:sp>
      <p:sp>
        <p:nvSpPr>
          <p:cNvPr id="54" name=""/>
          <p:cNvSpPr txBox="1"/>
          <p:nvPr/>
        </p:nvSpPr>
        <p:spPr>
          <a:xfrm>
            <a:off x="2987640" y="765000"/>
            <a:ext cx="441972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IDAL ENERGY</a:t>
            </a:r>
            <a:endParaRPr b="0" lang="en-US" sz="4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5" name=""/>
          <p:cNvSpPr/>
          <p:nvPr/>
        </p:nvSpPr>
        <p:spPr>
          <a:xfrm>
            <a:off x="179280" y="2997360"/>
            <a:ext cx="777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l energy is made by water waves hitting turbines therefore making electricity, due to the waves moving to make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5651640" y="404640"/>
            <a:ext cx="259236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he turbines for the tidal energy, waves make the turbines spin and again, wires make the electricity go to where it's neede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6227640" y="4076640"/>
            <a:ext cx="259236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one of the tidal energy generators. They aren't chea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31000"/>
          </a:xfrm>
          <a:prstGeom prst="rect">
            <a:avLst/>
          </a:prstGeom>
          <a:ln w="0">
            <a:noFill/>
          </a:ln>
        </p:spPr>
      </p:pic>
      <p:sp>
        <p:nvSpPr>
          <p:cNvPr id="61"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idal power generators, this is a drawn picture but obviously, this would power a lot of things that need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79280" y="33336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Is :  </a:t>
            </a:r>
            <a:endParaRPr b="0" lang="en-US" sz="2400" spc="-1" strike="noStrike">
              <a:solidFill>
                <a:srgbClr val="000000"/>
              </a:solidFill>
              <a:latin typeface="Arial"/>
            </a:endParaRPr>
          </a:p>
        </p:txBody>
      </p:sp>
      <p:sp>
        <p:nvSpPr>
          <p:cNvPr id="63" name=""/>
          <p:cNvSpPr txBox="1"/>
          <p:nvPr/>
        </p:nvSpPr>
        <p:spPr>
          <a:xfrm>
            <a:off x="1403280" y="404640"/>
            <a:ext cx="6840720" cy="1584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SOLAR ENERGY</a:t>
            </a:r>
            <a:endParaRPr b="0"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64" name=""/>
          <p:cNvSpPr/>
          <p:nvPr/>
        </p:nvSpPr>
        <p:spPr>
          <a:xfrm>
            <a:off x="539640" y="2492280"/>
            <a:ext cx="907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easy one for me to sum up, so I’ll sum it up in 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4:57:28Z</dcterms:created>
  <dc:creator>HWDSB</dc:creator>
  <dc:description/>
  <dc:language>en-US</dc:language>
  <cp:lastModifiedBy>HWDSB</cp:lastModifiedBy>
  <dcterms:modified xsi:type="dcterms:W3CDTF">2011-01-19T14:58:44Z</dcterms:modified>
  <cp:revision>6</cp:revision>
  <dc:subject/>
  <dc:title>First is Wind Power</dc:title>
</cp:coreProperties>
</file>